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DEA-ED29-4B89-81AA-E8D8F7BD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E21-171C-47EB-970A-CBE6646E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19A-B1DD-4A15-BF75-2FD65D82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323-6B3F-42CB-B7E3-87B177CD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BE79-6F38-4770-8E99-3FC25F09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48E-149E-42E5-BED1-9DCEEAE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6FBC-818D-4017-B5A7-7B0556AA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8E41-2523-49D7-B52B-B76BA330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DCE9-5896-430F-976D-4F29DFA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84C1-8898-4A04-AED7-860FF79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062-C0B4-4442-9FD2-E6519A2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BB0-20DD-43F1-A73E-4BF6D6CB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09FB-3A2E-462F-AF7B-F9809F18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16D5-233C-407A-9AF7-CB50D56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E3BF-35EF-4F9A-A02F-577A8923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A9A8-E8E7-477C-8DF4-35C968EE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D8B1-851C-4296-86AE-E301BF0F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571-3EBC-4AA8-9D7B-AD7F2DD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8D3-CFFA-44E2-B274-55886773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730-3B12-4F91-8D9D-E37F6F0E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D82-BBDC-4153-A0BE-D5147F1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51A-C0E5-49AC-8D88-2E0CC01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9B8-FCF4-46A9-B245-B78EBE63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C98-4915-4949-A34D-1A3F45D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A6F5-F42A-41B7-AC2C-534BA8923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2230-48B9-42F9-B110-6EF0485EA3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ЭТИ ЗАМЕЧАТЕЛЬНЫЕ ЧИС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110417"/>
          <p:cNvPicPr/>
          <p:nvPr/>
        </p:nvPicPr>
        <p:blipFill>
          <a:blip r:embed="rId1"/>
          <a:stretch/>
        </p:blipFill>
        <p:spPr>
          <a:xfrm rot="538800">
            <a:off x="6732720" y="18900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263847580_cifry"/>
          <p:cNvPicPr/>
          <p:nvPr/>
        </p:nvPicPr>
        <p:blipFill>
          <a:blip r:embed="rId2"/>
          <a:stretch/>
        </p:blipFill>
        <p:spPr>
          <a:xfrm rot="20991000">
            <a:off x="324000" y="3645000"/>
            <a:ext cx="288108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7696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овополагающий вопрос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атуральные числа – так ли они прос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облемные вопросы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Как, когда и где появилось числ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Какая система счисления лучш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Есть ли названия у натураль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чисе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3815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Умеют ли числа дружи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3815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f38153"/>
                </a:solidFill>
                <a:latin typeface="Comic Sans MS"/>
              </a:rPr>
              <a:t>Имеют ли числа форму?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Что такое система счисле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ие системы счисления бываю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 переводить числа из одной системы счисления в другую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ие числа считают близнец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Дружественное число или совершенно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Бывают ли числа фигурны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ие числа относятся к обращенны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         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и палиндромическим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5040360" cy="1656000"/>
          </a:xfrm>
          <a:prstGeom prst="rect">
            <a:avLst/>
          </a:prstGeom>
          <a:solidFill>
            <a:srgbClr val="52f04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Учащиеся 6-7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5600" y="3357720"/>
            <a:ext cx="626004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дме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Математика, информа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j0195384"/>
          <p:cNvPicPr/>
          <p:nvPr/>
        </p:nvPicPr>
        <p:blipFill>
          <a:blip r:embed="rId1"/>
          <a:stretch/>
        </p:blipFill>
        <p:spPr>
          <a:xfrm rot="839400">
            <a:off x="6732360" y="4508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4"/>
          <p:cNvPicPr/>
          <p:nvPr/>
        </p:nvPicPr>
        <p:blipFill>
          <a:blip r:embed="rId2"/>
          <a:stretch/>
        </p:blipFill>
        <p:spPr>
          <a:xfrm>
            <a:off x="2050920" y="465300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2"/>
          <p:cNvPicPr/>
          <p:nvPr/>
        </p:nvPicPr>
        <p:blipFill>
          <a:blip r:embed="rId3"/>
          <a:stretch/>
        </p:blipFill>
        <p:spPr>
          <a:xfrm rot="20914800">
            <a:off x="6084360" y="836280"/>
            <a:ext cx="1795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1309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260280"/>
            <a:ext cx="828036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После завершения проекта учащиеся смогу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пределять системы счисления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переводить числа из одной системы счисления в другую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пределить принадлежность натурального числа к количеству или номеру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пределять принадлежность натурального числа к числам – близнецам, дружественным, совершенным, палиндромическим и обращенным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находить нужную информацию в различных источниках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0920" y="5013360"/>
            <a:ext cx="525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формлять результаты в виде буклетов, презентаций в среде Microsoft Of</a:t>
            </a:r>
            <a:r>
              <a:rPr b="0" lang="en-US" sz="2600" spc="-1" strike="noStrike">
                <a:solidFill>
                  <a:srgbClr val="ed2a1b"/>
                </a:solidFill>
                <a:latin typeface="Comic Sans MS"/>
              </a:rPr>
              <a:t>f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Цели проект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расширение кругозора  дете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способствовать развитию познавательной деятельности воспитанник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формировать умение использовать различные источники информации, в том числе, Интерн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Приобретение навыков работы в команд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приобретение навыков работы с большим объёмом информации, выделять главно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Научить пользоваться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MS Publisher</a:t>
            </a: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Power Point</a:t>
            </a: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 для оформления результат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формировать коммуникативные навык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оформление результатов исследования (буклеты, презентации, почётные грамоты лучшим участникам проек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2124000" y="5661000"/>
            <a:ext cx="58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0123456789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65412"/>
          <p:cNvPicPr/>
          <p:nvPr/>
        </p:nvPicPr>
        <p:blipFill>
          <a:blip r:embed="rId1"/>
          <a:stretch/>
        </p:blipFill>
        <p:spPr>
          <a:xfrm>
            <a:off x="5651640" y="34290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696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В ХОДЕ ПРОЕКТА УЧАЩИЕ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УЗНАЮТ О СИСТЕМ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СЧИСЛЕНИЯ, О ТОМ, К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ПЕРЕВОДИТЬ ЧИСЛА ИЗ ОД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СИСТЕМЫ СЧИСЛЕНИЯ В ДРУГУЮ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ТАКЖЕ УГЛУБЯТ СВОИ ЗНАНИЯ 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НАТУРАЛЬНЫХ ЧИСЛ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763640" y="393372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Comic Sans MS"/>
              </a:rPr>
              <a:t>Результаты своих исследований они оформят в вид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Comic Sans MS"/>
              </a:rPr>
              <a:t>буклетов                                                 и презента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9:13:31Z</dcterms:created>
  <dc:creator>Admin</dc:creator>
  <dc:description/>
  <dc:language>en-US</dc:language>
  <cp:lastModifiedBy>Admin</cp:lastModifiedBy>
  <dcterms:modified xsi:type="dcterms:W3CDTF">2010-05-16T09:31:28Z</dcterms:modified>
  <cp:revision>13</cp:revision>
  <dc:subject/>
  <dc:title>ЭТИ ЗАМЕЧАТЕЛЬНЫЕ ЧИСЛА</dc:title>
</cp:coreProperties>
</file>